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5D36-02E0-465E-BB5C-26DE08DB3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133F-9E7F-465D-85B4-8248F01A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B6ED-ACF5-4178-A0F7-5287FBFA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FF80-13D1-4295-BCB3-20FF33F6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C516-C045-4D52-A555-A9C18E8F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1480-627B-4E8B-A16C-A5AA4DCC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1332-87AF-4B36-B32D-108451A3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BF47-CA44-47B4-B58C-91393B36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1A10-94A1-4B14-AB44-B482D70A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8C49-0921-4F70-92C4-10463EA8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48B0-20D8-4598-847D-775B0085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30EF-823C-4FBA-9EF1-95E9A0AA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8C81-762A-4701-87C5-17F4AD46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0CFC-4D49-466F-9FC4-A772B7A4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AAE7-D7F8-4198-95C7-773C1522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9902-C7C0-4F07-8986-7C767A98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74F9-A56D-40F0-BDF1-AB92CF079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D015-54BB-4A11-BE70-86D0C9FF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D7FC-7FEB-42C7-8FC7-D511480D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DF50-EF55-4326-AE72-F0A322D8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31EE-2C90-48DC-BDB4-CE27F7B7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F99D-5DB0-428A-AE1B-E767DC28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FC37-F0F3-4E8D-B69C-3D2D2AA5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27CC-228D-4A60-9637-6FA08A2B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F659-7EE4-47E2-9F2D-518DD2EA6D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8CAD-EBD6-45E3-BE8D-4A4A10BFFE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Goudy Old Style"/>
              </a:rPr>
              <a:t>The Theoretical and the Empirical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oudy Old Style"/>
              </a:rPr>
              <a:t>Two Pillars of Your Ethnographic Ess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Goudy Old Style"/>
              </a:rPr>
              <a:t>Putting the Theoretical with the Empirica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You should find, then, one of three (3) thing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Goudy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Their theories are corroborated (confirmed).  They hold up, point for poi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Goudy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Their theories are inadequate and in need of modification.  You then </a:t>
            </a:r>
            <a:r>
              <a:rPr b="0" i="1" lang="en" sz="2800" spc="-1" strike="noStrike">
                <a:solidFill>
                  <a:srgbClr val="ffffff"/>
                </a:solidFill>
                <a:latin typeface="Goudy Old Style"/>
              </a:rPr>
              <a:t>add to</a:t>
            </a: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 the theory (still staying within the overall framework) by offering new ways of accounting for phenomena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Goudy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The theories are downright useless.  A new one must be drawn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Goudy Old Style"/>
              </a:rPr>
              <a:t>Theory and Observation: Mutually Inform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udy Old Style"/>
              </a:rPr>
              <a:t>Theory needs obser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Theory is often viewed as “high” because it “sees from abov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However, </a:t>
            </a:r>
            <a:r>
              <a:rPr b="0" i="1" lang="en-US" sz="2000" spc="-1" strike="noStrike">
                <a:solidFill>
                  <a:srgbClr val="ffffff"/>
                </a:solidFill>
                <a:latin typeface="Goudy Old Style"/>
              </a:rPr>
              <a:t>direct observation</a:t>
            </a: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 (empirical research) must inform theory for it to be up-to-date, accurate and usefu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udy Old Style"/>
              </a:rPr>
              <a:t>Observation needs the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Observation is often viewed as “low” or, alternately, “down-to-earth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Observation unguided by theory may run the danger of finding nothing but random, scattered fa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udy Old Style"/>
              </a:rPr>
              <a:t>In academia, these two are kept in constant “dialogu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Goudy Old Style"/>
              </a:rPr>
              <a:t>Theory and Observation: Mutually Inform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55308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Goudy Old Style"/>
              </a:rPr>
              <a:t>Putting it on Pap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Overall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Introduction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Method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Discu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2280" y="6172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oudy Old Style"/>
              </a:rPr>
              <a:t>*Fuses elements of your proposal’s Introduction and Purpose s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Goudy Old Style"/>
              </a:rPr>
              <a:t>Introduction: To get us started 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udy Old Style"/>
              </a:rPr>
              <a:t>Theory-situated papers </a:t>
            </a:r>
            <a:r>
              <a:rPr b="0" i="1" lang="en-US" sz="2400" spc="-1" strike="noStrike">
                <a:solidFill>
                  <a:srgbClr val="ffffff"/>
                </a:solidFill>
                <a:latin typeface="Goudy Old Style"/>
              </a:rPr>
              <a:t>begin </a:t>
            </a:r>
            <a:r>
              <a:rPr b="0" lang="en-US" sz="2400" spc="-1" strike="noStrike">
                <a:solidFill>
                  <a:srgbClr val="ffffff"/>
                </a:solidFill>
                <a:latin typeface="Goudy Old Style"/>
              </a:rPr>
              <a:t>with theory (“they say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udy Old Style"/>
              </a:rPr>
              <a:t>Burkean parlor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You come late.  When you arrive, others have long preceded you, and they are engaged in a heated discussion, a discussion too heated for them to pause and tell you exactly what it is about. […] You listen for a while, until you decide that you have caught the tenor of the argument; then you put in your oar.  Someone answers; you answer him; another comes to your defense; another aligns himself against you. […]  The hour grows late, you must depart.  And you do depart, with the discussion still vigorously in progress.  (qtd. in Graff and Birkenstein 1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udy Old Style"/>
              </a:rPr>
              <a:t>You “enter the conversation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Also called “situating” the pap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Anchoring” in previous 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udy Old Style"/>
              </a:rPr>
              <a:t>Bring the </a:t>
            </a:r>
            <a:r>
              <a:rPr b="0" i="1" lang="en-US" sz="2400" spc="-1" strike="noStrike">
                <a:solidFill>
                  <a:srgbClr val="ffffff"/>
                </a:solidFill>
                <a:latin typeface="Goudy Old Style"/>
              </a:rPr>
              <a:t>unfamiliar academic audience</a:t>
            </a:r>
            <a:r>
              <a:rPr b="0" lang="en-US" sz="2400" spc="-1" strike="noStrike">
                <a:solidFill>
                  <a:srgbClr val="ffffff"/>
                </a:solidFill>
                <a:latin typeface="Goudy Old Style"/>
              </a:rPr>
              <a:t> up to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Names and titles of wo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Defin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oudy Old Style"/>
              </a:rPr>
              <a:t>Explan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Goudy Old Style"/>
              </a:rPr>
              <a:t>Introduction: To get us started 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Purpose must be plainly st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Research questions (with reference to si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Roughly equivalent to a “thesis statemen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Thesis statements, however, make claims to be proven later in the 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Research questions do not begin with claims; they are, to state the obvious, </a:t>
            </a:r>
            <a:r>
              <a:rPr b="0" i="1" lang="en-US" sz="2800" spc="-1" strike="noStrike">
                <a:solidFill>
                  <a:srgbClr val="ffffff"/>
                </a:solidFill>
                <a:latin typeface="Goudy Old Style"/>
              </a:rPr>
              <a:t>questions</a:t>
            </a: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 to be later </a:t>
            </a:r>
            <a:r>
              <a:rPr b="0" i="1" lang="en-US" sz="2800" spc="-1" strike="noStrike">
                <a:solidFill>
                  <a:srgbClr val="ffffff"/>
                </a:solidFill>
                <a:latin typeface="Goudy Old Style"/>
              </a:rPr>
              <a:t>answered </a:t>
            </a: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in the 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May be subdivided as you see f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Goudy Old Style"/>
              </a:rPr>
              <a:t>Methodology: How’d ya do i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udy Old Style"/>
              </a:rPr>
              <a:t>When did you go to your site to do researc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udy Old Style"/>
              </a:rPr>
              <a:t>How did you gain entry to the si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udy Old Style"/>
              </a:rPr>
              <a:t>Did you have the appropriate permission to use that site? (Signed consent for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udy Old Style"/>
              </a:rPr>
              <a:t>Did you observe, interview, or bot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udy Old Style"/>
              </a:rPr>
              <a:t>How did you choose whom to interview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udy Old Style"/>
              </a:rPr>
              <a:t>Did you participate as an “insider” (“participant-observer”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udy Old Style"/>
              </a:rPr>
              <a:t>How did you show the “insider” and “outsider” perspectives in your researc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udy Old Style"/>
              </a:rPr>
              <a:t>Were there problems/obstacl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udy Old Style"/>
              </a:rPr>
              <a:t>Was this research intended to serve the community in some wa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udy Old Style"/>
              </a:rPr>
              <a:t>How did you present your information ethically in your write-up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Goudy Old Style"/>
              </a:rPr>
              <a:t>Results: What’d ya fin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ck” descriptions/narrations (</a:t>
            </a:r>
            <a:r>
              <a:rPr b="0" i="1" lang="en-US" sz="3200" spc="-1" strike="noStrike">
                <a:solidFill>
                  <a:srgbClr val="ffffff"/>
                </a:solidFill>
                <a:latin typeface="Goudy Old Style"/>
              </a:rPr>
              <a:t>passim*</a:t>
            </a: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Scrupulous attention to det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Frequent use of interviewee stat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Data so arranged to answer research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May be subdivided into sections as you see f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6248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oudy Old Style"/>
              </a:rPr>
              <a:t>*An academic’s weakness for Latin terms: it means “throughout” or “here and there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Goudy Old Style"/>
              </a:rPr>
              <a:t>Discussion: Whaddya think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What in your reading (theory) ties to what you sa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What in the theory argues against what you sa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What other sources, if any, in your background research relates to what you sa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What other ideas could be explored with your researc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Why should this research be interesting/important to oth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Why was it interesting to 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May be subdivided as you see f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Goudy Old Style"/>
              </a:rPr>
              <a:t>Discussion: Whaddya think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The </a:t>
            </a:r>
            <a:r>
              <a:rPr b="0" i="1" lang="en-US" sz="2800" spc="-1" strike="noStrike">
                <a:solidFill>
                  <a:srgbClr val="ffffff"/>
                </a:solidFill>
                <a:latin typeface="Goudy Old Style"/>
              </a:rPr>
              <a:t>most important</a:t>
            </a: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 part of the paper since it is here that the findings of the results section are interpreted in light of previous literat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Whether the theory holds up or fails in new contexts will be gone into at some leng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Here, the researcher is free to speculate and theorize about why the findings turned up as they d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As this section is the most important, it will also need to be </a:t>
            </a:r>
            <a:r>
              <a:rPr b="0" i="1" lang="en-US" sz="2800" spc="-1" strike="noStrike">
                <a:solidFill>
                  <a:srgbClr val="ffffff"/>
                </a:solidFill>
                <a:latin typeface="Goudy Old Style"/>
              </a:rPr>
              <a:t>very highly developed</a:t>
            </a: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Goudy Old Style"/>
              </a:rPr>
              <a:t>Theory: The Abstra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Theory.  </a:t>
            </a: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Definition 4a from the </a:t>
            </a:r>
            <a:r>
              <a:rPr b="0" i="1" lang="en-US" sz="2800" spc="-1" strike="noStrike">
                <a:solidFill>
                  <a:srgbClr val="ffffff"/>
                </a:solidFill>
                <a:latin typeface="Goudy Old Style"/>
              </a:rPr>
              <a:t>Oxford English Dictionary</a:t>
            </a: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S</a:t>
            </a: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cheme or system of ideas or statements held as an explanation or account of a group of facts or phenomena; a hypothesis that has been confirmed or established by observation or experiment, and is propounded or accepted as accounting for the known facts; a statement of what are held to be the general laws, principles, or causes of something known or observed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Goudy Old Style"/>
              </a:rPr>
              <a:t>Theory: The Abstra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Etymology: “Gr. a looking at, viewing, contemplation, speculation, theory, also a sight, a spectacle, abstr. n. f. (:*) spectator, looker on.”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	</a:t>
            </a: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The word is related to our </a:t>
            </a:r>
            <a:r>
              <a:rPr b="0" i="1" lang="en" sz="2800" spc="-1" strike="noStrike">
                <a:solidFill>
                  <a:srgbClr val="ffffff"/>
                </a:solidFill>
                <a:latin typeface="Goudy Old Style"/>
              </a:rPr>
              <a:t>theater</a:t>
            </a: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, which is of course a place one goes to be a spectator or viewer.  According to Sharon Crowley, a theory, then, might be thought of as the viewpoint of the spectator at the theater who has a view of all of the goings-on of the stage.  In one way, the person in the seats has a view of things an actor simply doesn’t.  (But the reverse is also true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Goudy Old Style"/>
              </a:rPr>
              <a:t>Theory: The Abstra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Theory, as it takes a view of a very wide range of different phenomena and seeks to explain their relationships to each other by use of categories, is abstract—separated from particul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Goudy Old Style"/>
              </a:rPr>
              <a:t>E.g., literacy is a social practice (gene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Goudy Old Style"/>
              </a:rPr>
              <a:t>E.g., sponsors seek to gain an advantage (general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Theory-driven or theoretical papers are fueled by abstract explanations people have reached from observing several different particular cases, for which general explanations have been offered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Whatever is </a:t>
            </a:r>
            <a:r>
              <a:rPr b="0" i="1" lang="en" sz="2800" spc="-1" strike="noStrike">
                <a:solidFill>
                  <a:srgbClr val="ffffff"/>
                </a:solidFill>
                <a:latin typeface="Goudy Old Style"/>
              </a:rPr>
              <a:t>general</a:t>
            </a: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 has necessarily “lost touch with” what actually goes on, at least somew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400" spc="-1" strike="noStrike">
                <a:solidFill>
                  <a:srgbClr val="ccecff"/>
                </a:solidFill>
                <a:latin typeface="Goudy Old Style"/>
              </a:rPr>
              <a:t>Empirical: The Concre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" sz="3200" spc="-1" strike="noStrike">
                <a:solidFill>
                  <a:srgbClr val="ffffff"/>
                </a:solidFill>
                <a:latin typeface="Goudy Old Style"/>
              </a:rPr>
              <a:t>Empirical.  </a:t>
            </a:r>
            <a:r>
              <a:rPr b="0" lang="en" sz="3200" spc="-1" strike="noStrike">
                <a:solidFill>
                  <a:srgbClr val="ffffff"/>
                </a:solidFill>
                <a:latin typeface="Goudy Old Style"/>
              </a:rPr>
              <a:t>Definition 4 from the </a:t>
            </a:r>
            <a:r>
              <a:rPr b="0" i="1" lang="en" sz="3200" spc="-1" strike="noStrike">
                <a:solidFill>
                  <a:srgbClr val="ffffff"/>
                </a:solidFill>
                <a:latin typeface="Goudy Old Style"/>
              </a:rPr>
              <a:t>OED</a:t>
            </a:r>
            <a:r>
              <a:rPr b="0" lang="en" sz="3200" spc="-1" strike="noStrike">
                <a:solidFill>
                  <a:srgbClr val="ffffff"/>
                </a:solidFill>
                <a:latin typeface="Goudy Old Style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Goudy Old Style"/>
              </a:rPr>
              <a:t>	</a:t>
            </a:r>
            <a:r>
              <a:rPr b="0" lang="en" sz="3200" spc="-1" strike="noStrike">
                <a:solidFill>
                  <a:srgbClr val="ffffff"/>
                </a:solidFill>
                <a:latin typeface="Goudy Old Style"/>
              </a:rPr>
              <a:t>“</a:t>
            </a:r>
            <a:r>
              <a:rPr b="0" lang="en" sz="3200" spc="-1" strike="noStrike">
                <a:solidFill>
                  <a:srgbClr val="ffffff"/>
                </a:solidFill>
                <a:latin typeface="Goudy Old Style"/>
              </a:rPr>
              <a:t>Pertaining to, or derived from, experience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Goudy Old Style"/>
              </a:rPr>
              <a:t>Empirical: The Concre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" sz="3200" spc="-1" strike="noStrike">
                <a:solidFill>
                  <a:srgbClr val="ffffff"/>
                </a:solidFill>
                <a:latin typeface="Goudy Old Style"/>
              </a:rPr>
              <a:t>Etymology: L. </a:t>
            </a:r>
            <a:r>
              <a:rPr b="0" i="1" lang="en" sz="3200" spc="-1" strike="noStrike">
                <a:solidFill>
                  <a:srgbClr val="ffffff"/>
                </a:solidFill>
                <a:latin typeface="Goudy Old Style"/>
              </a:rPr>
              <a:t>empricus</a:t>
            </a:r>
            <a:r>
              <a:rPr b="0" lang="en" sz="3200" spc="-1" strike="noStrike">
                <a:solidFill>
                  <a:srgbClr val="ffffff"/>
                </a:solidFill>
                <a:latin typeface="Goudy Old Style"/>
              </a:rPr>
              <a:t>, Gr. -, f. experience, f. skilled, f. in + trial, experimen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Goudy Old Style"/>
              </a:rPr>
              <a:t>	</a:t>
            </a:r>
            <a:r>
              <a:rPr b="0" lang="en" sz="3200" spc="-1" strike="noStrike">
                <a:solidFill>
                  <a:srgbClr val="ffffff"/>
                </a:solidFill>
                <a:latin typeface="Goudy Old Style"/>
              </a:rPr>
              <a:t>For “experience,” the word boils down to, “to put to the test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Goudy Old Style"/>
              </a:rPr>
              <a:t>Empirical: The Concre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An empirically driven paper is one informed by </a:t>
            </a:r>
            <a:r>
              <a:rPr b="0" i="1" lang="en" sz="2800" spc="-1" strike="noStrike">
                <a:solidFill>
                  <a:srgbClr val="ffffff"/>
                </a:solidFill>
                <a:latin typeface="Goudy Old Style"/>
              </a:rPr>
              <a:t>direct observation or experience</a:t>
            </a: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As such, empirical papers involve the writer’s involvement with “real life”—the people, places, sights and sounds of particular locations (contexts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Your experience with your chosen sites will be a chance for you to “experiment,” in other words, to </a:t>
            </a:r>
            <a:r>
              <a:rPr b="0" i="1" lang="en" sz="2800" spc="-1" strike="noStrike">
                <a:solidFill>
                  <a:srgbClr val="ffffff"/>
                </a:solidFill>
                <a:latin typeface="Goudy Old Style"/>
              </a:rPr>
              <a:t>test</a:t>
            </a: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 the theories you have encountered in Brandt, Barton and Hamilton, and Resnic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000" spc="-1" strike="noStrike">
                <a:solidFill>
                  <a:srgbClr val="ccecff"/>
                </a:solidFill>
                <a:latin typeface="Goudy Old Style"/>
              </a:rPr>
              <a:t>Putting the Theoretical with the Empirical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Theories, as we said above, necessarily lose some touch with reality because they traffic in generalization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It’s no stretch to say that theorizing is a sophisticated form of stereotyping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Like stereotyping, theorizing focuses on characteristics observed to be common to a group, and then often applies, however provisionally, those characteristics to all members of that group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But theories, just like stereotypes, can be shown to be insufficient, in need of modification, or just downright wrong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Goudy Old Style"/>
              </a:rPr>
              <a:t>In some cases, you might find the theory, while dated, still ho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Goudy Old Style"/>
              </a:rPr>
              <a:t>Putting the Theoretical with the Empirica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Goudy Old Style"/>
              </a:rPr>
              <a:t>But how will you know whether the theory is still an adequate explanation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Goudy Old Style"/>
              </a:rPr>
              <a:t>You observ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Goudy Old Style"/>
              </a:rPr>
              <a:t>This is where your site research comes i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Goudy Old Style"/>
              </a:rPr>
              <a:t>You are out to test the validity of Brandt, Barton and Hamilton, and Resnick’s theor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06:23:12Z</dcterms:created>
  <dc:creator>csclab</dc:creator>
  <dc:description/>
  <dc:language>en-US</dc:language>
  <cp:lastModifiedBy>csclab</cp:lastModifiedBy>
  <dcterms:modified xsi:type="dcterms:W3CDTF">2009-02-26T09:30:06Z</dcterms:modified>
  <cp:revision>27</cp:revision>
  <dc:subject/>
  <dc:title>The Theoretical and the Empirical</dc:title>
</cp:coreProperties>
</file>